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4DC-32C0-4A74-903C-CA9E0E77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CAE-C22E-4956-BE18-51AD5E77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4B164-2C7C-4933-B796-53937EDD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57A1A-4F21-4095-835F-2595CCB4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95EA3-B5A3-49C3-A865-FA1AA78A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D5918-91B7-4DF7-8C3E-7525F1BD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2CA4D-AE56-4E18-9BE8-4C79575E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03AE6-ACD0-41C0-8033-AA57C51D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172FE-72FC-4B9E-B6BE-E19C76F1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0B815-E941-4C75-99E7-B0D58357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DEC45-0C7E-49EF-85A0-21893B7E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5DE58-4B73-4A6C-9E95-9311A91B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9CC-683D-4359-86FC-45BF4E15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029C1-2317-467F-A250-8E68AA5C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759B4-E0B2-4F19-ADE7-F0C55722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39EA8-2917-4734-AA1D-D26F9414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48F02-7816-43BA-8AC3-019A1AF2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2169F-703C-4405-9CBC-5C6CDD20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3D633-0586-49C6-BCD8-739A9F1A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798D0-D114-405C-AF15-58FA3AF0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C997B-D518-4CA4-B06E-A63028EA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8D2DD-96A5-4E6F-B876-370193F3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74404-F69B-49B0-8F51-5BE58CB0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9EF-509C-43C2-81D7-EBB65E8B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FDAAD-5337-4213-B70D-B0E2F15B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3C098-45E7-45CC-92EE-043023AC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EF80F-79C7-4EAA-A574-F6613A8E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993B2-67A3-46F1-B8BA-6E6779B5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F8645-9757-4797-9D39-BBFC2FC0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437F8-5A3E-4E4F-8482-D509D49D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92872-070A-43F3-A5D7-0BF48F0E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68100-76C2-479B-A7EB-EB2F8F35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A34DB-35BE-4A71-8EE4-A48719DD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592E5-1A88-4075-A60D-92996BB8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A08B-D528-46D9-B4B7-24A7F025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6160E-6E28-4A40-B16C-0325DB3F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42897-6EEE-4FFD-9794-39E145D9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4603D-5C54-4FE1-A83F-27B8B19A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53BA3-E120-4BE7-9568-0698A0EA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54515-3E09-4AFC-9EBF-67EA90BE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ADC70-E9B3-4A32-8BA5-CCF9A3A1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0991D-4CCE-40A0-92F3-ACE8A2BB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13B4C-9B98-4B1E-8219-7209A077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D2471-6C10-4667-96B4-FE91BC07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F889F-F869-4FCA-8375-B85A0B6B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07C3-CEF5-44D2-AAA2-B907B175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1F22D-5E96-4D1E-932D-309BAD17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92F45-3B37-406F-B272-45DB1B33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D25AF-0DD9-4A32-81FA-3CEE17B3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4C878-EAB4-4BE9-BFBF-2FA51374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250CB-1F0C-41C8-B9A3-8E74F1BA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61D8-4E96-422A-B3F5-53BAECF6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3EF8-0B78-46A4-9131-4B7232FB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D886-3CE9-47ED-922E-948A4C1E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CC76-482F-41D1-8883-504CADD6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BCCF-D004-4117-B5EF-A11B368C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08C-13DC-4B6A-ACAF-6BC80040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A385-3A76-4DFB-881B-45E3689B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A1C4-3C2E-4205-9828-3BC27121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8C76-43DE-492E-8491-776A7FA9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B234-B3EB-41ED-9CCA-AC0E83EE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96A7-539D-456B-89BA-FE0F767D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B7192-0FA1-456B-93A5-3F5ACF29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23035-D2EA-45D8-AADD-E20843BE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32AC-979E-449C-B539-267239B1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BC8D8-F0C5-4248-A96D-A2880D9A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74E1D-8CB7-48B1-AEA1-6A53E909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3F5-13D8-493D-A4E3-85B66C87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6109-B252-406F-811C-7DDCFB9E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B6DB-AAD8-4111-B2F9-63C96062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87849-72A4-4855-A4EC-17B3C80E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D766D-0B16-4124-8130-52BE0CDC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7AC0-E74D-4FCE-AE2A-7180EA07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59F37-4D96-48FB-9C2D-2827D077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DFFFB-DC91-4368-BA86-70FCDD66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57ECF-9502-411D-A97F-A58B17B6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9CFD8-C586-46BA-AFE6-50720C10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E50D4-A599-4D5E-9346-1B019EDE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B5D-5E8B-4008-969F-CA26D99F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AA931-E351-4748-98CA-0768D867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EE18A-C99F-43BE-81A9-29B2F5EA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B7914-25C4-4F10-B668-EC6BD843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55B8D-FEE8-46E9-B1A4-1C5A742C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215DD-E0BF-44B5-9839-E8452D17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A5805-FE0F-4A21-A13F-1026F9C7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3AFC1-8B96-438D-8866-82C122D2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A6DD0-520A-40B6-BE47-8F4EAF65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6ABE7-8D75-4E56-A37E-A1CE86A1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B1CB0-D024-4FD5-8676-701C580D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483-C1E0-4D86-A3E3-B93856B6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B9A7E-4CBC-4B53-8117-2D8738AF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9BAF7-EE0F-4C61-8186-1CB32407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03A98-4130-418E-95C5-D7304812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A46BF-1AD4-4DE3-A27A-55089991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E98BA-098F-47EF-B9E8-62C93A67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C2E98-692B-4D5E-8A49-3767A88D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B979F-6AFE-4DCB-95C9-B9F93D1B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BDD3B-6902-4599-A938-17AC4370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C44F4-603D-4C54-B4BA-C18727DE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16112-E366-4F7B-9973-1E8EB6E9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784-1AF6-4467-9932-707F11D4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EE4DF-10E2-4F38-97D8-24BFC500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B2200-55A5-46B3-9135-2AFC25BD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7FA30-9594-40CD-A79D-33657946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8B68F-8DA3-443E-90EB-6CF101C2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F8376-E0B7-4776-91D7-92EFE09C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A3754-1011-44CA-BB2C-52AC689E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B5A4F-7956-4FC0-A49B-D4CD22F3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8811F-8008-47BF-9446-662924E4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1B5F5-670D-4A5F-91E8-A6824142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897DF-9DA8-4588-A90D-40329A17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146E-0398-4B2C-A00D-933B2AA3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BF891-046F-4DE0-8E3A-263C2183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CEF35-DFAD-4937-806C-FD76701D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8F512-CB9F-4AEA-88D0-755BA372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8A120-0BAB-4CD2-A049-57A3FFDB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D9095-3921-480E-8FC1-BC067147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EA7EF-DF4A-4A24-899B-10751D48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3216F-1AA5-4D7C-A3F1-D2D2D4D1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F50E6-3F76-4627-8A0F-CD8A7AF7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96BDF-B1EB-4B22-BA9D-79A25E04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DEB33-E361-40A3-91A4-067C82E7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B47-CC7C-41BE-AAA8-1A4F3DF3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BB1DD-31E4-4896-8457-3449AF75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6C86C-A0A5-4A24-A0AF-ADBA4D98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97169-ABFF-43F6-8310-9F66912E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8F992-BE4F-4300-9C80-51B5E262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6E764-1699-41E7-8859-49CB1BB0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913E7-396F-4B13-AB96-0E5005A9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EB42D-2C66-47CD-AE08-4EAF55D2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BF549-2D46-42FC-86DB-7E924062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067DF-B125-4DA4-96F6-239A28CF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FD3E4-D8DD-4EA0-A110-DF50E81E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85A-8573-4290-BD65-A62F524B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6A1BD-7D5E-4721-AC13-D1476912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D706D-5BE6-4C96-8F63-68A20A40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411E8-29C3-40E4-890D-B6E12AE0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36D8D-732F-4C73-840B-28DD7061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03E3C-9F93-41BD-8FA4-44EF9A9C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C1D95-908B-4BAC-9A07-3F77769E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F0012-148F-483E-9388-8CB6A730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ED1BF-C453-48CD-8079-71B9CBAF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A9444-8CC6-4D75-B2CD-F14CCBA8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F0115-E9CC-49C6-9C05-748947E3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E490-4133-4DB5-812A-A4BD1B88E5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BBD9-681D-4489-8FDB-027FE74084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2EEA-2034-4322-B644-3E7F36F6E7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3B7D-BAB8-4EBA-9841-0DAB64E1D8D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95AA-5908-4209-8742-32297551970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AD85-6F66-424B-A699-C561C0BABA6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683E-CB94-4837-BA5C-EAA4460DD9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7D81-349E-455B-81BC-2C371DB450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C61D-46BE-4832-AC09-CCEDE5421A8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B3B9-EF6C-432B-BE02-184D89DF139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6E74-AF40-4E05-B343-26EF7D4AF9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0033-4C10-42C9-80C8-4D2B988851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83 Bože, ty si chránil, vied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Bože, ty si chránil, viedol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od mladosti krok môj sám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v svojej láske veď ma ďalej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priamou cestou k výšiná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če, veď ma, Otče, drž m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a púti zomdlie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šny svet ma na zlé zvádz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ušení strojí sie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byť, Pane,  stále pri m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ovom pravdy do tmy svie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chvíľach šťastia 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či v búrk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om svojím k sebe ve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ma k práci užitočn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ráň i v odpočinku z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č ma v bázni tvojej chod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uč vykupovať č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, keď sa mladosť stra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 si ty môj žiti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če, prosím, uč ma žiť tak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žil môj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rou a láskou čist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sa môj život sk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len tebe, Otče več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ospev môj vďačný zne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59:10Z</dcterms:modified>
  <cp:revision>85</cp:revision>
  <dc:subject/>
  <dc:title>Je veľký náš Pán, on slávy je Kráľ Nech do všetkých strán  spev vrúcnych znie chvál.</dc:title>
</cp:coreProperties>
</file>